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8.jpeg" ContentType="image/jpeg"/>
  <Override PartName="/ppt/media/action.wav" ContentType="audio/x-wav"/>
  <Override PartName="/ppt/media/image4.png" ContentType="image/png"/>
  <Override PartName="/ppt/media/laser.wav" ContentType="audio/x-wav"/>
  <Override PartName="/ppt/media/bad2bone.wav" ContentType="audio/x-wav"/>
  <Override PartName="/ppt/media/working.wav" ContentType="audio/x-wav"/>
  <Override PartName="/ppt/media/thatsallfolks.wav" ContentType="audio/x-wav"/>
  <Override PartName="/ppt/media/understanding.wav" ContentType="audio/x-wav"/>
  <Override PartName="/ppt/media/image6.png" ContentType="image/png"/>
  <Override PartName="/ppt/media/image9.jpeg" ContentType="image/jpeg"/>
  <Override PartName="/ppt/media/voltage.wav" ContentType="audio/x-wav"/>
  <Override PartName="/ppt/media/not_in_kansas.wav" ContentType="audio/x-wav"/>
  <Override PartName="/ppt/media/image7.png" ContentType="image/png"/>
  <Override PartName="/ppt/media/image1.png" ContentType="image/png"/>
  <Override PartName="/ppt/media/image3.jpeg" ContentType="image/jpeg"/>
  <Override PartName="/ppt/media/stuart.wav" ContentType="audio/x-wav"/>
  <Override PartName="/ppt/media/image2.png" ContentType="image/png"/>
  <Override PartName="/ppt/media/aletter.wav" ContentType="audio/x-wav"/>
  <Override PartName="/ppt/media/pu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682-7CC6-4D06-9F60-31E3EDE7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C5A-B916-4B08-890B-7445E06C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B51-9770-44B7-956B-C1075DAD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EB0-6560-449B-87EE-91D04848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420-D335-45ED-B54D-1F416B15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303-1A8C-4846-A23B-B4862E9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3B3-F23F-4EDA-8F3A-5EE7417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520-5AC5-4C5C-A46B-9953F96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D85-47B0-4039-BF79-EF113F9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340-E52B-465F-95C8-61041607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119-CDC5-4033-AD09-E975ECF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55B-CF28-45F2-8A9E-F1D1257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441-AAC4-4E1A-BAC1-CD801678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tte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tuart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ction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not_in_kansas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orking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atsallfolk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understanding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ad2bone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029200" cy="3124440"/>
          </a:xfrm>
          <a:prstGeom prst="rect">
            <a:avLst/>
          </a:prstGeom>
          <a:solidFill>
            <a:srgbClr val="8d1728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ear Juno</a:t>
            </a:r>
            <a:br>
              <a:rPr sz="6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81120"/>
            <a:ext cx="6400800" cy="1219320"/>
          </a:xfrm>
          <a:prstGeom prst="rect">
            <a:avLst/>
          </a:prstGeom>
          <a:solidFill>
            <a:srgbClr val="a81c3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lett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114800"/>
            <a:ext cx="8153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arents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2133720"/>
            <a:ext cx="487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picture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57600" y="2133720"/>
            <a:ext cx="48769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icture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5812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faraway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572000"/>
            <a:ext cx="449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35812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faraway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4038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company     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6386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39625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company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6765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entury Gothic"/>
              </a:rPr>
              <a:t>company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i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ns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ara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arent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057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Century Gothic"/>
              </a:rPr>
              <a:t>farawa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76520"/>
            <a:ext cx="914400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7400" y="-7632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answer   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41972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answer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 wash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495680"/>
            <a:ext cx="3124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4197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s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02264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School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029200"/>
            <a:ext cx="4419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402264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hool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411480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parents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26708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1-11T23:28:57Z</dcterms:modified>
  <cp:revision>31</cp:revision>
  <dc:subject/>
  <dc:title>Turtle’s Race With Beaver Word Wall Words</dc:title>
</cp:coreProperties>
</file>